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5EBC-C25E-4454-B6D9-A9771F9AC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A89-5AD1-4E07-A6CC-49F9C69B1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8DFD-F0CA-40E0-926A-3CEB145F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7CAF-341F-411B-BCDC-C1A82141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E0A-62FD-4808-8E8E-B2213261E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E8F-FA0F-46AA-961D-1D488695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E23-6174-4F92-8F6A-4987CACD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30D0-6188-4989-A9EF-1C284493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F28A-2B99-4A87-8A99-C2BEB103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158-FEA4-407F-B1ED-D6547092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FEAF-5285-47D5-BAD6-07CF4E07F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C240-3C7E-440C-964C-2D91B5C79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CAD6-9542-40C4-A4B3-696E008FE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E74-105F-47A6-B682-59E33B9EC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AEDD-8F5A-4D27-AEFF-826F58A6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068D-BFE0-4384-8E06-B4A71D8D9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C1DB-93EC-4EA9-AA99-21FB9B08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13E-6F98-4183-A0B2-5465555E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66B-DACF-4C20-99A0-4B8061D5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058-D92E-4B16-9770-0523740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87F-86B1-4E0C-A2AC-7AA384CE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3FE-15CD-47EC-807E-FE75D9A1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DE7D-4C59-4303-B9E0-FC030BB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7CB1-FA04-46FE-86F5-0B54FF34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F90-DBA8-4767-BDDE-44FEB19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4E9C-EDF2-4CA7-B212-56526CBB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C90F-F6F7-4E4F-BB18-1DC7366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8B97-B38E-4F32-97C0-70957CDC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6E7-BF61-4674-AB33-F79531C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8F54-6ECA-457D-B076-535FC6D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D6A2-BE80-400B-85E3-23C8AEB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79F0-3B84-4F3A-9CD7-09FD4A82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2DCB-43E6-4807-BF35-51124418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BE70-F053-4110-B497-460EDE89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658-9FDA-4EBD-82AF-1C80C152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7A1-0023-40E1-9A43-AF8C36C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BD8-A7B3-48E6-A908-99C6F8C3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1B8-4548-441B-8C07-9CDEA329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B9B-5385-4748-8BCA-05F6DED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A0D-4614-46DE-8826-AF421B1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7C4-F3D2-4C59-9A39-FD82262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8C0-3988-4F9E-85BA-73BBDC6F88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C6A8-5085-4C31-BC02-B249B6B004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4190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lcome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rriculum Nigh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12-2013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 sign forms on the desk in the hall.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ford Creek Elementary Schoo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14400" y="4876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Detai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ncpublicschools.org/docs/acre/standards/common-core-tools/unpacking/ela/5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Ma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71600" y="17524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ke sense of problems and persevere in solving th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Reason abstractly and quantitative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Construct viable arguments and critique the reasoning of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th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Model with mathematic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Use appropriate tools strategical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ttend to prec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. Look for and make use of structu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. Look for and express regularity in repeated reason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Ma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371600" y="1752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Detai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ncpublicschools.org/docs/acre/standards/common-core-tools/unpacking/math/5th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Par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371600" y="175248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hat Can You Do?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engageny.org/wp-content/uploads/2012/05/Shifts-for-Students-and-Parents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pta.org/5thGradeFeb4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8232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s Based Gr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05120" y="1295280"/>
          <a:ext cx="5715000" cy="5181840"/>
        </p:xfrm>
        <a:graphic>
          <a:graphicData uri="http://schemas.openxmlformats.org/drawingml/2006/table">
            <a:tbl>
              <a:tblPr/>
              <a:tblGrid>
                <a:gridCol w="1879560"/>
                <a:gridCol w="3835440"/>
              </a:tblGrid>
              <a:tr h="74304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nds targeted grade level standar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ce I can do/get this, I 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gure out new things!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ficiency of targeted grade lev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ards with evidence of applic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get it and I can use it.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</a:tr>
              <a:tr h="83808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ficiency of targeted gra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 standar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get it!” “I can do it well!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528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eds support to meet targeted grade level standar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almost get it, but I need help.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</a:tr>
              <a:tr h="99036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ufficient performance of targeted grade level standard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don’t get it yet.  I need help.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s work is not being assess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am practicing a new skil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b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:45 - 9: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room and Morning Sh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:25 - 10: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s (PE, Media, Music, Art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:15 - 11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 and BJ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:30 - 12:4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and BJB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12:50 -  1: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20 -  1:5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50 -  2: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30 -  3:3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/Social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4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miss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work is a review of strategies taugh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actice multiplication and division facts every night (if your child does not already know th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lete Reading Log Night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udies/Science/Writing – as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e 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ning Rec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/Post Unit Assess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, Reading, &amp; Science E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cpublicschools.org/curricul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and Writing Worksho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ghton Mifflin Math Expr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 k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court Social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Wor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609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mon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s Based Gr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w of the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&amp;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-lesson each day with active student invol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Reading with “Just Right”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d Reading/Conferenc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ner Talk and Partner Reading – have authentic conversations about what you read with your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776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r’s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990720" y="1447920"/>
            <a:ext cx="761976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ini-lesson each day with active student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volvement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nferencing will be used to help individu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develop stronger writing skill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will be introduced to and compos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 variety of writing such as persona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arratives, poetry, research project,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(nonfiction), realistic fiction,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rsuasive essay, newsletter, memoirs,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business and friendly letters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s-on, manipulative based, and full of problem sol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ng, Exploring Numbers, and Place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ment and Geom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, Fractions, and Decim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ic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Un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aught with hands on activities and experiment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trong emphasis on vocabulary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cosystem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uman Body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orce, Motion, and Design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cience Studies Challenger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 Histor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ve Americans and Colonial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omy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kly F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ased communication (e-mail and Wikispaces) </a:t>
            </a:r>
            <a:r>
              <a:rPr b="0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sanfordcreek5th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your child’s teacher v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telephone:  570-2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 Commun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osed Field Tr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w River State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est Forest Ra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est Meteorolog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ill working on cost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 Volunte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parent volunteers </a:t>
            </a:r>
            <a:r>
              <a:rPr b="1" i="1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gister each year to become a volunt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s should check in at the off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ordinate your volunteer time with your child’s teac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rder to chaperone a field trip, you must be registered as a level 3/4 volunteer stat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an Growth an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erty 1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dily chan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oductive org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 Meeting February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imgthatsallfolks_2"/>
          <p:cNvPicPr/>
          <p:nvPr/>
        </p:nvPicPr>
        <p:blipFill>
          <a:blip r:embed="rId1"/>
          <a:stretch/>
        </p:blipFill>
        <p:spPr>
          <a:xfrm>
            <a:off x="2743200" y="838080"/>
            <a:ext cx="4286160" cy="37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560" y="4038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/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Rationale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wcpss.net/common-core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Shif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ttp://engageny.org/wp-content/uploads/2011/08/common-core-shifts.pd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371600" y="1752480"/>
            <a:ext cx="70866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the Standard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wer, clearer, and hig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gned with college and work 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 rigorous content and application of knowledg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high-order ski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upon strengths and lessons of current stat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tionally benchmarked, so that all students a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ed to succeed in our global economy and socie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evidence and rese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371600" y="1752480"/>
            <a:ext cx="70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reading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ad closely to determine what the text says explici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Determine and analyze central ideas or the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nalyze interactions of characters, events, and ide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Interpret words and phrases in tex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Analyze text stru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ssess point of vie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. Integrate and evaluate media co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. Delineate and evaluate the arguments and claims in tex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Analyze texts with similar themes or top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Read and comprehend complex tex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371600" y="17524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writing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 arguments to support clai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Write informative/explanatory texts to convey ideas clear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Write narratives to develop real or imagined experi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Produce clear and coherent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Develop and strengthen writing using the entire writing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Use technology to produce and publish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. Conduct short and sustained research pro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. Gather and integrate relevant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Draw evidence from texts to support re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Write routinely for a range of tasks, purposes, and audi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066680" y="21337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speaking and listening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pare for and participate effectively in convers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Integrate and evaluate media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Evaluate a speaker’s point of view, reasoning, and rhetor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Present information logically and clear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Make strategic use of digital media and visual displ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dapt speech to a variety of contexts and ta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mmon Core: 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066680" y="213372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conventions, students should be able 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monstrate command of the conventions of English gramm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Demonstrate command of the conventions of Englis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pitalization, punctuation, and spelling when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pply knowledge of language to understand how langu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Demonstrate or clarify meanings of unknown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Demonstrate understandings of word relationsh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 Acquire and use accurately a range of general academic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3:34:51Z</dcterms:created>
  <dc:creator>WCPSS</dc:creator>
  <dc:description/>
  <dc:language>en-US</dc:language>
  <cp:lastModifiedBy>tstrong</cp:lastModifiedBy>
  <dcterms:modified xsi:type="dcterms:W3CDTF">2012-07-24T14:55:48Z</dcterms:modified>
  <cp:revision>187</cp:revision>
  <dc:subject/>
  <dc:title>Welcome to Open House 2005!</dc:title>
</cp:coreProperties>
</file>